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9E7638-BB03-4CBA-A5DC-6A8A8EA6130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B7DC1-521E-4DCE-BC8B-1A21AC3456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714E16-6A82-4316-96C9-A39679A58F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B87E0-91A2-4F78-A7F6-3A46CE7161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89AEFB-7744-49F2-8909-09E19B959D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383383-5F0B-4169-BE82-AA1DF9F757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9DCC88-55A8-44D8-8949-9A37B28C45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42C97-1632-4F80-81A5-15907A6DE56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07FAD-E107-4BF4-8DE1-6BEF62EDFB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DB60-316A-452A-8ED3-25AC2C240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83AF2-C87E-45E6-BF81-D97C9FB1977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C2E9-5EEC-40AD-AD34-C487F82782D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FA6AB-4ABD-406A-82CB-CF76A07D8F8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48B30-C565-4416-A0E7-255968D152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3A16-7A68-44FA-B1C3-49D2C7DD31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F856D-5D0A-47B2-82D0-C31341D58B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05AB-5EA0-4C16-AC00-6D11B34DCC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29A65-08E8-47FB-AF3A-305583FC12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29CC-F5A4-4399-98B5-BDCCC4F1B6C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FCCC-43B5-4D01-9B30-4BDDA2335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3D36-B601-4FA4-9877-A6D6F5EDCB7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4DFC6-7E5C-4DBB-AAAB-CF5B91CC31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B146C-C0EF-4DC9-9E70-374C43F081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C5DBC-7E2F-42DA-81D0-A055F9611B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7CF5F-AF2F-42F8-9DD8-42BA76E7F1F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018C6-5E88-46F4-8E2A-292DB2819BB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0B1DE-8E2C-486B-95D0-5CCA02FFCD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02030-5803-4956-966E-BA9B23A1E7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AB8FC-5C26-4124-9678-B4371CE287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58EF8-E779-4FA9-A6BC-B4FAFA416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4271-B62F-4D86-A3D9-73BA3ACF3E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5D3F9-0D31-471E-8442-2ED174491B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91B21-E266-4779-90C4-164B0D016E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2B820-A802-48FB-BF4D-B2F03E3E90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4F6A-4422-4D04-8821-C16E89EED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E164-D536-4613-9B65-011ADF4FAB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8D9D-53FC-4D20-88EC-2A757E8245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3A66-FB3E-4359-8D72-F5F153CBA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FABA-D0BA-4EFF-8EB2-1895B573CA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00D6-A9B9-48E3-B2A6-E664A87DF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F987-C076-41C3-9D4B-01B306024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B8A5-44BC-4483-B4AC-9EF67B4EDE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50127-BCF6-4057-88F1-07FC1F97B1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E00F-E72E-4799-82B1-9605185C84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C740-0010-44A0-9C72-2C86776673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C29B3-6403-48C8-9EBF-54127707E9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0EBDA-1A5A-497C-9860-A1DCBE70C2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10C3A-02BC-4482-B9E9-E964E95C08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AF78D-DABD-498C-B609-D2307F566E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8BF23-E63A-48D5-9CE3-21965A42B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6B1E6-811C-40A8-B611-65E0F0E64F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528C9-07C7-493C-86C3-D209C10D03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3D0BC-229A-48ED-AAC0-CD31FF7B69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C8A32-AA7F-4802-BDFD-CC58E9416B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C0A68-4B08-47E5-AA63-B563BA963A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7D9BC-5D65-4377-A4EB-69F2C2FA99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A5FCF-7624-414D-8C06-8A5C132807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A683-EC6C-4331-9FFB-82DB27D37A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F774-1866-4666-8974-E721584266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9D5A-444B-442D-9C27-0E94FFD74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1E68-B0DA-42FE-AF8D-3927519BD8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F868-289D-4776-836E-E7337C6C9F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B87-6B43-4013-A6A8-80284706C2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4D5-B480-4511-8A6A-6C861200AE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3E8A-676D-403D-B5BC-1AEA978D1C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A67D-8866-4D5C-AC97-AEB334D921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BF08-3E16-4B62-BF72-FFCFA41DBA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4601-195D-4301-BC0D-47A5C4B8CF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682-2BD7-4C5F-99F7-AAB99C358F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80C91-F62A-4785-940B-8F673CD64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DEDD4-A54B-4E78-9936-E22C9A34F7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44BE0-38C0-424C-ACD9-D705A0E440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1C6F0-3A4D-4055-BDBA-5252C490B5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F610F-1187-447F-8C6C-186525894F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3CE5D-5317-4411-89EF-7934CF2D10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78187-11AD-4F03-88B3-4B6E1300BB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A0569-47E7-432D-BD88-6E933E6347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49BE1-842F-4E79-BD41-1E7EB295B6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71A02-0678-4B7C-B407-5DE325DBAD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B5848-D85D-4C6F-96DB-C0C5459FF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85B4A-3799-46F4-AA6D-0FB81330F6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FD237-EE92-42F8-A579-B81C225FBE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4932D-1BC1-4A7F-B29B-9BDC4FCB0F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1CF6D-608A-4E34-A842-BE0EB2511A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A9604-9466-4F0C-B16E-C52BB36344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6305E-113C-4738-A5B2-71427A6DFE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81B37-3CF9-4B3B-A85A-963A237514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42380-4861-468F-842D-2D427D71B4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A1B73-19A9-4AA8-9882-630F5DD515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C32A2-B764-4447-A7D1-F260DE9F4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3A8D9-63DB-4FA7-88FD-851E63D090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7D0C7-C605-4651-874C-82BA70ADAB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48229-B533-470E-81A0-0A1D9801F6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990B-06F4-4870-AED2-F1DE2A24E2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2497-676B-466C-BBC9-2CAB2BD368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C4AE-1BF1-4848-A362-A532AB5EAD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8AB7-034E-4211-AA49-72C8017D5A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45011-4CEA-49C8-9287-3BCF18464FA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A323-F23B-4720-B484-3799B1CBE8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7ABF-BD35-4C1C-B5B5-185856400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824C-262F-435A-90C5-ED4E57E83A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4ACE-D3F6-42C0-A717-C4B43D4B69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8E91-80B1-4D07-BDC0-440F8AA947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B3BE-685D-4F22-8D57-A67B0A0670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B7F3-D954-4FF2-B79B-A4544C55DC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96EC4-7EDA-4BD3-B7E1-725CF11E60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1E755-D2AD-4097-8904-579850DA18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58133-075C-4E6A-A786-1977C4A63D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C2BBF-AE45-4EC4-A6A9-52359BAAEC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5B4C2-9622-43E8-80E0-3C7C92FD3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9AAF8-84FF-4C10-B713-D203B36E59B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7DE8A-9B01-4470-99CC-EE53113E9E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03F58-C385-497C-80A3-E9D2736896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D129D-51D5-458C-831C-91AFD208A0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A5334-18D2-4848-8598-E5F2EE3DF9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BF4BC-C58D-4DCA-BF28-8CD2BD158D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73556-4814-47ED-9489-F60B3A292A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8A027D-63E9-4CF2-B370-96C5983FC1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A9EFE8-2530-4915-B01D-10D5774AC1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FDAA98-2C42-4D38-A43A-47D96F0C0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D505-1393-4DCA-B88A-4227EFC34F1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1103-C3AE-4FE7-840B-78E3F465A49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373A-14F5-49E6-9626-8BE7C01F060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A481-E5F0-4B85-86AB-8DCA7B6FADE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966C-FF38-4ECB-92C1-355BD25536B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920-8982-4889-B9E8-A8DE36D4384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0000-AFF9-4289-8FF2-F8625238D1E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41B-CA5F-4CEE-84E8-0FCD0F4E25E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44DC-7C22-4D1E-ACA1-8C0EC81188E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45C3-AB4D-4C19-9B23-2CF21775D0F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Digital modelling for fash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ssa Viola Chiara Vecch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(NO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ngles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40 Polimi + 5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SI/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Il corso è mirato a fornire conoscenze tecniche utili alla modellazione tridimensionale di accessori moda, con particolare attenzione all'estetica e alle regole di rappresentazione del progetto. Nel corso sarà approfondito l'utilizzo del software Rhinoceros che rappresenta un indispensabile strumento per la presentazione tridimensionale degli oggetti e l'anteprima di concept di progett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0836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Gli studenti saranno indirizzati alla modellazione di superfici semplici e complesse attraverso esercizi di modellazione di varia difficoltà, sino alla simulazione di un vero set di presentazione still life.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'insegnamento é strutturato sulla base di tre fasi di apprendimento: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ilievo e rappresentazione degli oggetti tramite disegno a mano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iproduzione di oggetti moda dal disegno tecnico alla modellazione 3D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eazione di immagini foto realistiche tramite renderizzazione delle superfic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"/>
          <p:cNvSpPr/>
          <p:nvPr/>
        </p:nvSpPr>
        <p:spPr>
          <a:xfrm>
            <a:off x="10836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3"/>
          <p:cNvSpPr/>
          <p:nvPr/>
        </p:nvSpPr>
        <p:spPr>
          <a:xfrm>
            <a:off x="10836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3"/>
          <p:cNvSpPr/>
          <p:nvPr/>
        </p:nvSpPr>
        <p:spPr>
          <a:xfrm>
            <a:off x="10836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3"/>
          <p:cNvSpPr/>
          <p:nvPr/>
        </p:nvSpPr>
        <p:spPr>
          <a:xfrm>
            <a:off x="10836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468360" y="1268280"/>
            <a:ext cx="835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Alla fine del corso gli studenti saranno in grado di affrontare in modo indipendente le prime problematiche della rappresentazione del progetto, tramite la modellazione per superfici e l'anteprima estetico formale di materiali e textur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urante il corso verranno affrontate prove in itinere in classe, utili a verificare l'apprendimento delle diverse fasi di insegnamento del corso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viola</cp:lastModifiedBy>
  <cp:lastPrinted>2003-05-08T11:08:41Z</cp:lastPrinted>
  <dcterms:modified xsi:type="dcterms:W3CDTF">2014-08-27T20:20:17Z</dcterms:modified>
  <cp:revision>218</cp:revision>
  <dc:subject/>
  <dc:title>Inserire immagine della locandina, possibilmente in trasparenza e aggiungere Facoltà di Architettura Illustrazione prova di ammissione prof. Silvia Piardi (idem Cedolin)</dc:title>
</cp:coreProperties>
</file>